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79AA-0607-4248-83DA-45DE434C9B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79360" y="6094440"/>
            <a:ext cx="7323120" cy="74664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RFP2010: Etat des travaux et prochaines échéances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Rachel Fritsc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’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’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census@bfs.admin.ch" TargetMode="External"/><Relationship Id="rId2" Type="http://schemas.openxmlformats.org/officeDocument/2006/relationships/hyperlink" Target="http://www.rfp2010.bfs.admin.ch/" TargetMode="External"/><Relationship Id="rId3" Type="http://schemas.openxmlformats.org/officeDocument/2006/relationships/hyperlink" Target="http://www.vz2010.bfs.admin.ch/" TargetMode="External"/><Relationship Id="rId4" Type="http://schemas.openxmlformats.org/officeDocument/2006/relationships/hyperlink" Target="file:///../Documents%20and%20Settings/U3769/Local%20Settings/Temporary%20Internet%20Files/OLK17/www.CFP2010.bfs.admin.ch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1950840"/>
            <a:ext cx="7523280" cy="27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  <a:ea typeface="Arial"/>
              </a:rPr>
              <a:t>RFP2010: </a:t>
            </a:r>
            <a:br>
              <a:rPr sz="4000"/>
            </a:br>
            <a:r>
              <a:rPr b="1" lang="de-CH" sz="4000" spc="-1" strike="noStrike">
                <a:solidFill>
                  <a:srgbClr val="000000"/>
                </a:solidFill>
                <a:latin typeface="Arial"/>
                <a:ea typeface="Arial"/>
              </a:rPr>
              <a:t>Etat des travaux et prochaines échéance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560" y="5516640"/>
            <a:ext cx="74293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éance d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formation: préparation du RFP2010 et d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’enquêt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sur la formation de base et la formation continue 2011 - 8 octo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achel Frit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1197000"/>
            <a:ext cx="7462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perçu du calendrier RFP2010/SHA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25720" y="2103120"/>
            <a:ext cx="1301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14240" y="2448000"/>
            <a:ext cx="70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4880" y="244620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2520" y="2103120"/>
            <a:ext cx="1303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71640" y="2107800"/>
            <a:ext cx="6508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27480" y="2103120"/>
            <a:ext cx="1301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29240" y="2103840"/>
            <a:ext cx="13035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14240" y="5700600"/>
            <a:ext cx="831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01280" y="5027760"/>
            <a:ext cx="832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93360" y="6110280"/>
            <a:ext cx="833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5400" y="57276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5400" y="5027760"/>
            <a:ext cx="114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Réalisation harmo. regis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5400" y="2427120"/>
            <a:ext cx="114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RFP2010 /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108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2428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604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7164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2443320"/>
            <a:ext cx="0" cy="36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26320" y="241920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72240" y="2435400"/>
            <a:ext cx="0" cy="36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5440" y="241920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2312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60960" y="5486400"/>
            <a:ext cx="784080" cy="187200"/>
          </a:xfrm>
          <a:prstGeom prst="rect">
            <a:avLst/>
          </a:prstGeom>
          <a:solidFill>
            <a:srgbClr val="ff7c80"/>
          </a:solidFill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.01.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16560" y="2617920"/>
            <a:ext cx="227160" cy="226800"/>
          </a:xfrm>
          <a:prstGeom prst="flowChartDecision">
            <a:avLst/>
          </a:prstGeom>
          <a:solidFill>
            <a:srgbClr val="ed181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71640" y="5156280"/>
            <a:ext cx="32544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Réalisation de l‘harmonisation des regist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71640" y="2552760"/>
            <a:ext cx="32544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Mise en place du systè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26040" y="5232240"/>
            <a:ext cx="130320" cy="1666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2552760"/>
            <a:ext cx="10414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26040" y="263520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71640" y="5751360"/>
            <a:ext cx="7160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Mise e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7680" y="5832360"/>
            <a:ext cx="129960" cy="1652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7640" y="5751360"/>
            <a:ext cx="17589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Roll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6600" y="5837400"/>
            <a:ext cx="130320" cy="1648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24280" y="4670280"/>
            <a:ext cx="20844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Mise en place cadre de sond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08680" y="4767120"/>
            <a:ext cx="131760" cy="1666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05760" y="2870280"/>
            <a:ext cx="4712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ubl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6640" y="2870280"/>
            <a:ext cx="6588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6040" y="3968640"/>
            <a:ext cx="12970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Relev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43720" y="4319640"/>
            <a:ext cx="11793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Relev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06840" y="3968640"/>
            <a:ext cx="14018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répa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4040280"/>
            <a:ext cx="130320" cy="1648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16640" y="405288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8120" y="3968640"/>
            <a:ext cx="96192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Traitement</a:t>
            </a:r>
            <a:br>
              <a:rPr sz="900"/>
            </a:b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0000" y="3968640"/>
            <a:ext cx="5828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20040" y="4052880"/>
            <a:ext cx="12996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3080" y="4319640"/>
            <a:ext cx="10414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9880" y="4397400"/>
            <a:ext cx="131760" cy="1652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75760" y="2455920"/>
            <a:ext cx="0" cy="36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32840" y="4044960"/>
            <a:ext cx="129960" cy="1652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40440" y="4670280"/>
            <a:ext cx="29876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Cadre de sondage opérationn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Tirage trimestri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8960" y="2930400"/>
            <a:ext cx="130320" cy="1652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6920" y="4324320"/>
            <a:ext cx="8892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Trait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16960" y="4416480"/>
            <a:ext cx="129960" cy="1648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26320" y="2107800"/>
            <a:ext cx="1301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28080" y="2432160"/>
            <a:ext cx="0" cy="36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36120" y="4416480"/>
            <a:ext cx="12996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99400" y="2863800"/>
            <a:ext cx="5763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74120" y="2932200"/>
            <a:ext cx="129960" cy="1648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16880" y="2863800"/>
            <a:ext cx="4716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ubl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440" y="2924280"/>
            <a:ext cx="130320" cy="16488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85240" y="2925720"/>
            <a:ext cx="130320" cy="1652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874000" y="4319640"/>
            <a:ext cx="1540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51400" y="3236760"/>
            <a:ext cx="5716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Relev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48360" y="3232080"/>
            <a:ext cx="5716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Traite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29400" y="3300480"/>
            <a:ext cx="13032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15160" y="330048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58280" y="3238560"/>
            <a:ext cx="57132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Relev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54880" y="3233880"/>
            <a:ext cx="630360" cy="301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Traite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991720" y="3301920"/>
            <a:ext cx="12996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330192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26040" y="3605040"/>
            <a:ext cx="6080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Omn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bus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1760" y="368928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53240" y="3605040"/>
            <a:ext cx="3981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i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3676680"/>
            <a:ext cx="13032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16640" y="3606840"/>
            <a:ext cx="5018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Omn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bus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12000" y="369108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37280" y="3606840"/>
            <a:ext cx="39852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i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35800" y="3678120"/>
            <a:ext cx="130320" cy="1638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23080" y="3608280"/>
            <a:ext cx="4748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Omn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bus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91440" y="369252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17080" y="3608280"/>
            <a:ext cx="3981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i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715240" y="3679920"/>
            <a:ext cx="13032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97760" y="5192640"/>
            <a:ext cx="130320" cy="1666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10360" y="5477040"/>
            <a:ext cx="981360" cy="187200"/>
          </a:xfrm>
          <a:prstGeom prst="rect">
            <a:avLst/>
          </a:prstGeom>
          <a:solidFill>
            <a:srgbClr val="ff7c80"/>
          </a:solidFill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WID disponi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6920" y="5751360"/>
            <a:ext cx="44211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Opérationn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782960" y="2473200"/>
            <a:ext cx="30240" cy="37004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959680" y="534024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92640" y="53355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7160" y="5170320"/>
            <a:ext cx="12909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Travaux finau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8120" y="5251320"/>
            <a:ext cx="129960" cy="1666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880" y="1916280"/>
            <a:ext cx="12996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88840" y="1828800"/>
            <a:ext cx="15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Jalon opératio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17640" y="1916280"/>
            <a:ext cx="13032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47960" y="1828800"/>
            <a:ext cx="14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remiers résul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285264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Relevés basés sur les regis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Relevé structur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3573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Omni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933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Mobilité et trans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2926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Formation de base et formation contin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465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Cadre de sond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Microrecensement Mobilité et transports (MRMT201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95280" y="2781360"/>
            <a:ext cx="746280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tégration des partenaires régionaux est achevé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spcAft>
                <a:spcPts val="1250"/>
              </a:spcAft>
              <a:buNone/>
              <a:tabLst>
                <a:tab algn="l" pos="0"/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(total des densifications: + 20’5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hase de test en 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Relevé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v. 2010 – janv.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emiers résultats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écem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1557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Relevé basé sur les regist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2060640"/>
            <a:ext cx="74628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0">
              <a:lnSpc>
                <a:spcPts val="2599"/>
              </a:lnSpc>
              <a:spcAft>
                <a:spcPts val="1250"/>
              </a:spcAft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spcAft>
                <a:spcPts val="1125"/>
              </a:spcAft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vraisons 2010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(dates de référence des donné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vraisons pour les tests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1.03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Aft>
                <a:spcPts val="1250"/>
              </a:spcAft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0.06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vraison pour le tirage relevé structrurel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0.09.10</a:t>
            </a:r>
            <a:r>
              <a:rPr b="0" lang="fr-CH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vraison pour le RFP2010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1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92080" indent="0">
              <a:lnSpc>
                <a:spcPts val="2599"/>
              </a:lnSpc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onnées personnes 2010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in août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92080" indent="0">
              <a:lnSpc>
                <a:spcPts val="2599"/>
              </a:lnSpc>
              <a:spcAft>
                <a:spcPts val="1250"/>
              </a:spcAft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onnées ménages + bât. &amp; log. 2010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in décem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Relevé structur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Aft>
                <a:spcPts val="1312"/>
              </a:spcAft>
              <a:buNone/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nsification x4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villes de Berne et de Zu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nsification x2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usqu’au 31 décembre 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our de référence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1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emiers résultats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écem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onnées cumulées sur 3 ans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onnées cumulées sur 5 ans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in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Microrecensement Formation de base et formation continue (MRF 2011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5280" y="2707920"/>
            <a:ext cx="746280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0">
              <a:lnSpc>
                <a:spcPts val="2599"/>
              </a:lnSpc>
              <a:buNone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atalogue des thèmes et esqu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spcAft>
                <a:spcPts val="1250"/>
              </a:spcAft>
              <a:buNone/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 questionnaire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erminé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nsification – cde des cantons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v. – fin mars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relevé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v. – déc.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emiers résultats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écem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Omnibu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0">
              <a:lnSpc>
                <a:spcPts val="2599"/>
              </a:lnSpc>
              <a:spcAft>
                <a:spcPts val="1250"/>
              </a:spcAft>
              <a:buNone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Omnibus 2010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nquête sur la société de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’information et de la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nquête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mi-avril – mi-mai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ublication des résultats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mi-novembr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èmes pour 2011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octobr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Enquête suisse sur la santé (ESS 201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2420640"/>
            <a:ext cx="74628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0">
              <a:lnSpc>
                <a:spcPts val="2599"/>
              </a:lnSpc>
              <a:buNone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formations sur l’enquête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utomne 2010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nsification – cde des cantons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v. – fin mars 20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relevé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v. – déc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emiers résultats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éc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spcAft>
                <a:spcPts val="1250"/>
              </a:spcAft>
              <a:buNone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Contacts /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1988640"/>
            <a:ext cx="74628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0">
              <a:lnSpc>
                <a:spcPts val="2599"/>
              </a:lnSpc>
              <a:buNone/>
              <a:tabLst>
                <a:tab algn="l" pos="23320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23320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ervice clientè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buNone/>
              <a:tabLst>
                <a:tab algn="l" pos="0"/>
                <a:tab algn="l" pos="23320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u lundi au vendr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buNone/>
              <a:tabLst>
                <a:tab algn="l" pos="0"/>
                <a:tab algn="l" pos="23320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8h30 – 12h00 / 13h30 – 16h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spcAft>
                <a:spcPts val="2500"/>
              </a:spcAft>
              <a:buNone/>
              <a:tabLst>
                <a:tab algn="l" pos="0"/>
                <a:tab algn="l" pos="23320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él. 0800 866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23320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nsus@bfs.admin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Aft>
                <a:spcPts val="1312"/>
              </a:spcAft>
              <a:buClr>
                <a:srgbClr val="000000"/>
              </a:buClr>
              <a:buFont typeface="Arial"/>
              <a:buChar char="•"/>
              <a:tabLst>
                <a:tab algn="l" pos="23320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FP2010.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Aft>
                <a:spcPts val="1312"/>
              </a:spcAft>
              <a:buNone/>
              <a:tabLst>
                <a:tab algn="l" pos="0"/>
                <a:tab algn="l" pos="23320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VZ2010.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0">
              <a:lnSpc>
                <a:spcPts val="2599"/>
              </a:lnSpc>
              <a:spcAft>
                <a:spcPts val="1312"/>
              </a:spcAft>
              <a:buNone/>
              <a:tabLst>
                <a:tab algn="l" pos="0"/>
                <a:tab algn="l" pos="23320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FP2010.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5:12:33Z</dcterms:created>
  <dc:creator>Michel Gentile</dc:creator>
  <dc:description/>
  <dc:language>en-US</dc:language>
  <cp:lastModifiedBy>Rachel Fritschi</cp:lastModifiedBy>
  <cp:lastPrinted>2003-11-14T16:51:38Z</cp:lastPrinted>
  <dcterms:modified xsi:type="dcterms:W3CDTF">2009-10-06T07:06:32Z</dcterms:modified>
  <cp:revision>287</cp:revision>
  <dc:subject/>
  <dc:title>Workshop                 – Service de validation</dc:title>
</cp:coreProperties>
</file>